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11F-ADBE-4A16-8ADB-758099D00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788-1DBE-46B7-9C3A-DA10E45A17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A40F-6C0E-48FF-B3C0-5CAE73726C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E56-4AB2-447B-85E3-92102748C7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2611-563D-4DFD-8257-43C2CC71A4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B9FD-4948-424E-82AC-27CDF1534C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118D-6BCB-4B9A-BE43-E8E8A99C82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C02-125C-4206-9151-DA633EFABA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A20B-D8DD-4215-8D5D-97F0C2268E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541-D47A-45CE-ADE3-B85D75A23F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DB6-D40D-4C22-A222-8A4914DB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8B4-1753-426B-901F-D7514822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4A8-CB9A-4A58-A720-AF887F6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795-7DD6-46AB-B81A-7A3AAA15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8697-CBCF-42FC-9FE4-082B783C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F92-5334-4CB9-A76E-BCC33BC0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7339-1CA9-494A-AF1F-6B573A6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7D8F-EB9A-4540-BF5D-7964E94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6C16-35FD-49E6-8977-0462C51C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CED8-A60B-476C-9B24-19C786C0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5F22-E1AF-4C41-B5DD-613A0E5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59D-6D0C-4425-ADD5-0698835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89E4-4C44-4B6B-87E8-92FE05C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F47-3719-48B9-8579-35FE743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D29-23F4-4382-AB52-77B74519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A13F-D89A-44D8-8059-23A66EFE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13F6-AE07-4952-B815-CA06EC02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CC062-7FC6-45CF-BB0B-159E1A34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97D30-955C-45DE-8528-8E8D71CD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DD0A9-4D89-4BA5-BAC7-64750E94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F0AD0-A94D-4C60-9254-5D70BF9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C8740-F870-4F7A-B704-4E9A9D6C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B48-CF51-4829-8985-9D174D78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68A18-3376-4094-B284-01802FC1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D38D3-F131-4543-A70A-8C2EB32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89832-C92A-4EB0-B28B-AA3A0F9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CACFD-6B50-48AA-B414-F1DEFE5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418B9-892F-4E06-A303-19505246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17DCD-7229-47D2-AC03-68CD65BB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46CC9-79B2-408C-BC72-9FBCA347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32EF-C1E6-4AF8-9F38-BEEFCAE6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9E1E-E919-4339-82C6-EB93702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1AB6-ED83-4ABB-91B3-0E12B9F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647-1921-462C-8E3A-3809C96D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0733-0F1C-46D1-81C7-58FE5297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9B33-A6C0-454F-A5D4-9916DA0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09387-28E2-47C6-A87B-89D1DD3F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C6F1-37F8-43F5-93D9-B48CFD2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BDD2-C883-40DC-B4C4-4B04A3F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8A90-7642-45F1-8829-1DD7A60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F1DA-CA56-4323-A539-13F8520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BCEA-3B7E-4805-A41A-DA08ECE4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E8E0-844C-47B1-B04C-11C90FA2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0470C-CB96-49E1-89B1-C2954CA4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912-7362-4630-842E-DFD1997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26B06-31A2-4315-88B8-7C6196B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91880-2AAD-4B67-AB2A-10B15A0C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A748D-E9B5-4019-B2A0-0AB312B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5835D-2A86-454C-AAAF-02C8B19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C10A8-593E-4FC1-AF7D-F0B6BEA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1E23C-9823-4151-B051-7126D10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7C00D-209B-4030-AADB-E0DF7D8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A8A0A-13F6-44FA-A9F5-E27BA37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8DDB1-B4A7-4B72-B274-49F03071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88A51-DFF3-4A49-8B96-5505CA8C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D8E-4D62-4D35-8954-16C304EB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B3FFA-454D-4C19-82C4-31F38A16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DCD7E-8D4E-49A7-AA91-4F72A128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D5D18-CDD8-4299-8F18-DBC19FA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B4FD0-B7C7-42A5-86C8-A5A0470B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4CCFA-24D8-46F4-89EF-9D941F0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86CA8-72A5-4E57-A569-2A0EB037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A5630-0D74-4189-92B4-98E2D77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3FC74-548D-4AC7-9F06-4CB34CA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51A97-C11B-4952-8D6B-D296E514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C3135-D259-4136-A539-612E0A67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15D-7301-46BB-A716-EC785B9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4B51E-2C14-4D9D-B41D-6FDE715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DAE2A-C401-4D55-9767-F906278F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7A5CB-2D4E-4C7C-8426-A1715A3C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F1817-9526-45F8-AABE-3F8CFA5B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56E94-18C5-41C6-BCAD-4A5BA3F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15A12-9E79-4C6E-8E84-21581894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8ED23-2DA0-4C89-8941-912C4B0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F1719-3702-4A6B-8C98-EE6A4F57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10AE9-1B86-4EB5-A894-2309998E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AAEA1-AAA4-4B32-8791-CA61543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EFE-B3B4-46A8-B6D0-0A18A23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AEC25-A912-47C9-8049-985DF56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6DF1F-3481-4131-B4F8-68E6E77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DFFCE-6B9B-455F-BB0A-C70CC8D5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92E63-2871-419D-B95B-1ACAE71E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E108B-9855-4808-B6D1-0138E11B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303-6551-4AD3-AE09-04F19C4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9B41-F472-4641-BF81-4DA04160DCB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44BF-48EF-4B8E-8A98-1CC58FD9B3D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3089-58C9-4F45-A647-BF23899FD7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9CEC-7F4C-4178-977F-4A41A96757E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4DB-2B20-4598-988F-4F88AA49A5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2FC-F08D-4342-816B-5A276D6069B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1B01-448E-4398-82CF-8D2C507A88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Century Schoolbook"/>
              </a:rPr>
              <a:t>    </a:t>
            </a:r>
            <a:r>
              <a:rPr b="1" lang="en-US" sz="9600" spc="-1" strike="noStrike">
                <a:solidFill>
                  <a:srgbClr val="f8f8f8"/>
                </a:solidFill>
                <a:latin typeface="Century Schoolbook"/>
              </a:rPr>
              <a:t>P/W</a:t>
            </a:r>
            <a:endParaRPr b="0" lang="en-US" sz="9600" spc="-1" strike="noStrike">
              <a:solidFill>
                <a:srgbClr val="f8f8f8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entury Schoolbook"/>
              </a:rPr>
              <a:t>The Interplay of Pictures and Words: Seven Combinations in Scott McCloud’s </a:t>
            </a:r>
            <a:r>
              <a:rPr b="1" i="1" lang="en-US" sz="2800" spc="-1" strike="noStrike">
                <a:solidFill>
                  <a:srgbClr val="f8f8f8"/>
                </a:solidFill>
                <a:latin typeface="Century Schoolbook"/>
              </a:rPr>
              <a:t>Understanding Comics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Pictures &amp; Words - Understanding Comics - 1.jpg"/>
          <p:cNvPicPr/>
          <p:nvPr/>
        </p:nvPicPr>
        <p:blipFill>
          <a:blip r:embed="rId1"/>
          <a:stretch/>
        </p:blipFill>
        <p:spPr>
          <a:xfrm>
            <a:off x="571680" y="1417680"/>
            <a:ext cx="8001000" cy="402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Pictures &amp; Words - Understanding Comics 2.jpg"/>
          <p:cNvPicPr/>
          <p:nvPr/>
        </p:nvPicPr>
        <p:blipFill>
          <a:blip r:embed="rId1"/>
          <a:stretch/>
        </p:blipFill>
        <p:spPr>
          <a:xfrm>
            <a:off x="571680" y="1474920"/>
            <a:ext cx="8001000" cy="3908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Pictures &amp; Words - Understanding Comics 3.jpg"/>
          <p:cNvPicPr/>
          <p:nvPr/>
        </p:nvPicPr>
        <p:blipFill>
          <a:blip r:embed="rId1"/>
          <a:stretch/>
        </p:blipFill>
        <p:spPr>
          <a:xfrm>
            <a:off x="647640" y="1214280"/>
            <a:ext cx="7848720" cy="442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Pictures &amp; Words Understanding Comics 4.jpg"/>
          <p:cNvPicPr/>
          <p:nvPr/>
        </p:nvPicPr>
        <p:blipFill>
          <a:blip r:embed="rId1"/>
          <a:stretch/>
        </p:blipFill>
        <p:spPr>
          <a:xfrm>
            <a:off x="571680" y="1154160"/>
            <a:ext cx="8001000" cy="454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Pictures &amp; Words Understanding Comics 5.jpg"/>
          <p:cNvPicPr/>
          <p:nvPr/>
        </p:nvPicPr>
        <p:blipFill>
          <a:blip r:embed="rId1"/>
          <a:stretch/>
        </p:blipFill>
        <p:spPr>
          <a:xfrm>
            <a:off x="666720" y="1488960"/>
            <a:ext cx="7810560" cy="3880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Pictures &amp; Words Understanding Comics 6.jpg"/>
          <p:cNvPicPr/>
          <p:nvPr/>
        </p:nvPicPr>
        <p:blipFill>
          <a:blip r:embed="rId1"/>
          <a:stretch/>
        </p:blipFill>
        <p:spPr>
          <a:xfrm>
            <a:off x="685800" y="1433520"/>
            <a:ext cx="7772400" cy="399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Pictures &amp; Words - Understanding Comics 7.jpg"/>
          <p:cNvPicPr/>
          <p:nvPr/>
        </p:nvPicPr>
        <p:blipFill>
          <a:blip r:embed="rId1"/>
          <a:stretch/>
        </p:blipFill>
        <p:spPr>
          <a:xfrm>
            <a:off x="1852560" y="533520"/>
            <a:ext cx="5438880" cy="579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Pictures &amp; Words - Understanding Comics 8.jpg"/>
          <p:cNvPicPr/>
          <p:nvPr/>
        </p:nvPicPr>
        <p:blipFill>
          <a:blip r:embed="rId1"/>
          <a:stretch/>
        </p:blipFill>
        <p:spPr>
          <a:xfrm>
            <a:off x="914400" y="1569960"/>
            <a:ext cx="7315200" cy="3718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6:31:19Z</dcterms:created>
  <dc:creator>Seachelle</dc:creator>
  <dc:description/>
  <dc:language>en-US</dc:language>
  <cp:lastModifiedBy>Seachelle</cp:lastModifiedBy>
  <dcterms:modified xsi:type="dcterms:W3CDTF">2011-08-28T18:25:15Z</dcterms:modified>
  <cp:revision>4</cp:revision>
  <dc:subject/>
  <dc:title>P/W</dc:title>
</cp:coreProperties>
</file>